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png" ContentType="image/png"/>
  <Override PartName="/ppt/media/image9.png" ContentType="image/png"/>
  <Override PartName="/ppt/media/image11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6C9B-4B24-4F73-AED7-0450EAFF7419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C8AB-5554-4010-99B9-138B61F5B751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3A7E-3CFB-4732-9963-C4D416875A45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D834-71CD-4A34-880B-870E2CBCAE56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D251-4402-4FE6-86FE-187842D3D87C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0393-79D5-499F-BA11-FA6AA9B6D2E9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0F47-F1C4-4C2C-9B96-DAAE60532605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E9B3-B033-4AFF-AA3D-30D48DF6C81B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2EEC-B11A-4BDF-B452-50FB078B352F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D258-5B4C-4AC7-B344-5E66BCBC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24CF-84FD-4058-8AB7-0A8CC2F3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BECB-3F31-4E1C-A62F-F01A68211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5E4A-3F99-4D4C-B0DC-874BA1F07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72D2-2C66-4914-B714-5F7440ED7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02E8-489E-4F27-AED5-FD1D13A5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F92B-1069-489D-BB2B-558097F7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4551-4224-4122-97AB-A1842129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F7A5-DDA4-42BA-AD48-20E53E65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EA1A-B43A-497F-9965-BC81B123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027F-78F2-4F4D-8E31-586BC8E8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EB58-BD5F-42BA-9D5F-308EFD34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21CC-1D81-4B23-AB97-DBAE30D8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2D75-00DE-4375-867F-BBB17BBE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9DCE-230A-4EE8-95C1-B555C76C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76CE-51FA-4E5A-A88F-75A6FE789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E8DB-EEA6-4DC0-BAC3-C8F468EB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87461-22EA-46F6-BAF0-30BE83F5F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7E569-7B45-4435-8B6F-98425C77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BD15F-CECB-4F5F-8DBB-877E4C85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45AB5-762C-42CE-A518-1EF86A7C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00046-7A25-419F-8FA6-97241ACB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5B82-E22E-45E4-93EC-FA533DF0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0F3D8-1A4B-4C80-9898-0BD105D7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F75D3-9EAF-43F9-8911-29EC5D9B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BB686-3D4B-44B5-917B-E58616D3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49EE9-1DBC-4506-A92C-465194C8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F91B7-4E43-4E14-8C0F-7B92A203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BAE8E-2D61-4FD3-9F2F-38DD7B45B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2616E-47CC-46FC-BA15-03EDEA8E6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24791-4B24-45C1-8BDE-583FE36DA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CF06A-9C87-49E2-83AB-E3738D2C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40ABD-9C05-4C2E-92B0-DF488790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DE89-ED4D-431F-86A4-E43D708B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09BBB-EB27-433A-BA71-84D1570A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0D23B-0C80-4FBD-AF88-E19A30BF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5C8FA-1A07-47CB-83C1-7DC39104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9EB5D-263A-4E5E-9718-3FEA4CEA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E5CB4-491B-444B-86D3-BB0FC730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47C9E-0F40-400F-8DFB-11986F52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A725A-9B87-49B3-9CA5-56FE112A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C7710-089B-4742-9A5B-2BF486FD5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4D092-10E5-410F-8451-88D85733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A25E4-E236-4A68-B11E-6002ED23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95DF-3B35-4BC0-BDA9-38B94353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8090C-2D52-4EF1-91FF-3D8457F1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94CA4-5C71-48BF-BED5-242D26FA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9BC82-8834-4A5E-A284-7FFC7EE8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38A2C-C14C-455D-8D08-EC5F0965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76032-1C04-4DA3-A452-E1F63C80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39528-EAE2-480F-8FD5-8ECD6C9F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F68E1-F191-40CC-BF3A-6D834359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01D50-4BAD-4D37-994E-1D7E3220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66E4B-E6E5-401E-808C-64834BC7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FDE9C-D68B-4737-B844-7A7F2A46E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CEA9-F3F8-44FF-9AEF-538E01EC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56FFC-4070-4967-A924-91D9D128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CE386-9503-4BE7-B812-EAC610BF2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223A5-8500-4B94-BF60-73EEB7A8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88CD7-C0A4-498E-9EAE-5EBC9EC3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770B4-4E91-4F61-9660-4B2B4448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84791-B6CC-41D9-8E7D-A689337B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DBFAA-0F70-4B3E-A525-C5E5A479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6A9B7-0D58-4EE0-878C-3AE616A1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3A9D5-1CA3-4882-8AAC-8C75954B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3796C-4AD9-4C6C-B100-A291E992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7755-6188-441C-88D5-766883A5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17D97-6713-4670-A4AA-05E82052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A7960-BFED-4A7A-B250-2342BE8D8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81211-48D0-4C0A-9ECC-93F20EFAA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606E8-8BF6-4D68-AF3A-CCC6E4AE5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1FF63-8B90-443F-82BC-48FE1859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B3C2B-47C3-4E8E-A28D-12F6AA16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6353D-3791-4805-9DD3-386E2B40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CC486-E745-4FCE-92F7-DFF576D8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455C8-DFEC-46C2-A2BA-12FE3643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1C9FE-A0F2-4D24-A8C6-746E7488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8F8F-845B-42CC-B428-E98000D5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C44D6-08B1-46D1-AB20-B15A1FCC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0665E-EDD4-474E-A4A8-B00F1146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88031-0856-4989-96AF-B6A2534C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B3798-514A-41DA-A040-298DE2522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CEAEA-921F-46BF-A55C-A15710D0D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A251-7E4B-487D-B566-B2A5342A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B036-EDFA-4E69-B897-B781E6C15B17}" type="slidenum">
              <a:rPr b="0" lang="en-N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0CE1-41F0-4FA1-BE6B-C10B9F2E019B}" type="slidenum">
              <a:rPr b="0" lang="en-N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9456-8D1A-4420-A39F-CE4D7C4A01D3}" type="slidenum">
              <a:rPr b="0" lang="en-N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D0E2-CFE9-4FFA-9B2E-4D98824C504E}" type="slidenum">
              <a:rPr b="0" lang="en-N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AD63-061E-4CEB-A7CC-91B89E0D4E16}" type="slidenum">
              <a:rPr b="0" lang="en-N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D32E-35DB-4DCC-A3F1-8BF5D60B8555}" type="slidenum">
              <a:rPr b="0" lang="en-N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D297-36BF-481C-B617-A6D3E67393D0}" type="slidenum">
              <a:rPr b="0" lang="en-N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300" spc="-1" strike="noStrike">
                <a:solidFill>
                  <a:srgbClr val="572314"/>
                </a:solidFill>
                <a:latin typeface="Gill Sans MT"/>
              </a:rPr>
              <a:t>Embedding ICT into teaching through e-learn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6" name="TextBox 4" descr=""/>
          <p:cNvPicPr/>
          <p:nvPr/>
        </p:nvPicPr>
        <p:blipFill>
          <a:blip r:embed="rId1"/>
          <a:stretch/>
        </p:blipFill>
        <p:spPr>
          <a:xfrm>
            <a:off x="3584520" y="3913200"/>
            <a:ext cx="3438720" cy="23353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"/>
          <p:cNvPicPr/>
          <p:nvPr/>
        </p:nvPicPr>
        <p:blipFill>
          <a:blip r:embed="rId2"/>
          <a:stretch/>
        </p:blipFill>
        <p:spPr>
          <a:xfrm>
            <a:off x="1295280" y="2286000"/>
            <a:ext cx="753444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300" spc="-1" strike="noStrike">
                <a:solidFill>
                  <a:srgbClr val="572314"/>
                </a:solidFill>
                <a:latin typeface="Gill Sans MT"/>
              </a:rPr>
              <a:t>IC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9" name="Picture 4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924680" cy="2551320"/>
          </a:xfrm>
          <a:prstGeom prst="rect">
            <a:avLst/>
          </a:prstGeom>
          <a:ln w="0">
            <a:noFill/>
          </a:ln>
        </p:spPr>
      </p:pic>
      <p:sp>
        <p:nvSpPr>
          <p:cNvPr id="330" name="TextBox 15"/>
          <p:cNvSpPr/>
          <p:nvPr/>
        </p:nvSpPr>
        <p:spPr>
          <a:xfrm>
            <a:off x="6781680" y="46483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Gill Sans MT"/>
              </a:rPr>
              <a:t>Foundations for 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300" spc="-1" strike="noStrike">
                <a:solidFill>
                  <a:srgbClr val="572314"/>
                </a:solidFill>
                <a:latin typeface="Gill Sans MT"/>
              </a:rPr>
              <a:t>What are ICT’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332" name="TextBox 3"/>
          <p:cNvGrpSpPr/>
          <p:nvPr/>
        </p:nvGrpSpPr>
        <p:grpSpPr>
          <a:xfrm>
            <a:off x="1809720" y="1573200"/>
            <a:ext cx="7907400" cy="5849280"/>
            <a:chOff x="1809720" y="1573200"/>
            <a:chExt cx="7907400" cy="5849280"/>
          </a:xfrm>
        </p:grpSpPr>
        <p:pic>
          <p:nvPicPr>
            <p:cNvPr id="333" name="TextBox 3" descr=""/>
            <p:cNvPicPr/>
            <p:nvPr/>
          </p:nvPicPr>
          <p:blipFill>
            <a:blip r:embed="rId1"/>
            <a:stretch/>
          </p:blipFill>
          <p:spPr>
            <a:xfrm>
              <a:off x="1809720" y="1573200"/>
              <a:ext cx="7907400" cy="498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1905120" y="1600200"/>
              <a:ext cx="5943600" cy="58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Gill Sans MT"/>
                </a:rPr>
                <a:t>computers </a:t>
              </a:r>
              <a:r>
                <a:rPr b="0" lang="en-NZ" sz="1800" spc="-1" strike="noStrike">
                  <a:solidFill>
                    <a:srgbClr val="000000"/>
                  </a:solidFill>
                  <a:latin typeface="Gill Sans MT"/>
                </a:rPr>
                <a:t>laptop </a:t>
              </a:r>
              <a:r>
                <a:rPr b="0" lang="en-NZ" sz="1400" spc="-1" strike="noStrike">
                  <a:solidFill>
                    <a:srgbClr val="000000"/>
                  </a:solidFill>
                  <a:latin typeface="Gill Sans MT"/>
                </a:rPr>
                <a:t>PDA</a:t>
              </a:r>
              <a:r>
                <a:rPr b="0" lang="en-NZ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NZ" sz="4000" spc="-1" strike="noStrike">
                  <a:solidFill>
                    <a:srgbClr val="000000"/>
                  </a:solidFill>
                  <a:latin typeface="Gill Sans MT"/>
                </a:rPr>
                <a:t>digital cameras  </a:t>
              </a:r>
              <a:r>
                <a:rPr b="0" lang="en-NZ" sz="1800" spc="-1" strike="noStrike">
                  <a:solidFill>
                    <a:srgbClr val="000000"/>
                  </a:solidFill>
                  <a:latin typeface="Gill Sans MT"/>
                </a:rPr>
                <a:t>digital  </a:t>
              </a:r>
              <a:r>
                <a:rPr b="0" lang="en-NZ" sz="2400" spc="-1" strike="noStrike">
                  <a:solidFill>
                    <a:srgbClr val="000000"/>
                  </a:solidFill>
                  <a:latin typeface="Gill Sans MT"/>
                </a:rPr>
                <a:t>video cameras </a:t>
              </a:r>
              <a:r>
                <a:rPr b="0" lang="en-NZ" sz="1800" spc="-1" strike="noStrike">
                  <a:solidFill>
                    <a:srgbClr val="000000"/>
                  </a:solidFill>
                  <a:latin typeface="Gill Sans MT"/>
                </a:rPr>
                <a:t>creativity and communication software </a:t>
              </a:r>
              <a:r>
                <a:rPr b="0" lang="en-NZ" sz="1400" spc="-1" strike="noStrike">
                  <a:solidFill>
                    <a:srgbClr val="000000"/>
                  </a:solidFill>
                  <a:latin typeface="Gill Sans MT"/>
                </a:rPr>
                <a:t>Internet </a:t>
              </a:r>
              <a:r>
                <a:rPr b="0" lang="en-NZ" sz="3600" spc="-1" strike="noStrike">
                  <a:solidFill>
                    <a:srgbClr val="000000"/>
                  </a:solidFill>
                  <a:latin typeface="Gill Sans MT"/>
                </a:rPr>
                <a:t>web2 </a:t>
              </a:r>
              <a:r>
                <a:rPr b="0" lang="en-NZ" sz="1800" spc="-1" strike="noStrike">
                  <a:solidFill>
                    <a:srgbClr val="000000"/>
                  </a:solidFill>
                  <a:latin typeface="Gill Sans MT"/>
                </a:rPr>
                <a:t>blogs </a:t>
              </a:r>
              <a:r>
                <a:rPr b="0" lang="en-NZ" sz="2800" spc="-1" strike="noStrike">
                  <a:solidFill>
                    <a:srgbClr val="000000"/>
                  </a:solidFill>
                  <a:latin typeface="Gill Sans MT"/>
                </a:rPr>
                <a:t>wikis</a:t>
              </a:r>
              <a:r>
                <a:rPr b="0" lang="en-NZ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NZ" sz="2000" spc="-1" strike="noStrike">
                  <a:solidFill>
                    <a:srgbClr val="000000"/>
                  </a:solidFill>
                  <a:latin typeface="Gill Sans MT"/>
                </a:rPr>
                <a:t>telephones </a:t>
              </a:r>
              <a:r>
                <a:rPr b="0" lang="en-NZ" sz="1400" spc="-1" strike="noStrike">
                  <a:solidFill>
                    <a:srgbClr val="000000"/>
                  </a:solidFill>
                  <a:latin typeface="Gill Sans MT"/>
                </a:rPr>
                <a:t>fax machines</a:t>
              </a:r>
              <a:r>
                <a:rPr b="0" lang="en-NZ" sz="4800" spc="-1" strike="noStrike">
                  <a:solidFill>
                    <a:srgbClr val="000000"/>
                  </a:solidFill>
                  <a:latin typeface="Gill Sans MT"/>
                </a:rPr>
                <a:t> mobiles  </a:t>
              </a:r>
              <a:r>
                <a:rPr b="0" lang="en-NZ" sz="2800" spc="-1" strike="noStrike">
                  <a:solidFill>
                    <a:srgbClr val="000000"/>
                  </a:solidFill>
                  <a:latin typeface="Gill Sans MT"/>
                </a:rPr>
                <a:t>tape recorders</a:t>
              </a:r>
              <a:r>
                <a:rPr b="0" lang="en-NZ" sz="1800" spc="-1" strike="noStrike">
                  <a:solidFill>
                    <a:srgbClr val="000000"/>
                  </a:solidFill>
                  <a:latin typeface="Gill Sans MT"/>
                </a:rPr>
                <a:t> interactive stories </a:t>
              </a:r>
              <a:r>
                <a:rPr b="0" lang="en-NZ" sz="2400" spc="-1" strike="noStrike">
                  <a:solidFill>
                    <a:srgbClr val="000000"/>
                  </a:solidFill>
                  <a:latin typeface="Gill Sans MT"/>
                </a:rPr>
                <a:t>simulated environments  </a:t>
              </a:r>
              <a:r>
                <a:rPr b="0" lang="en-NZ" sz="1800" spc="-1" strike="noStrike">
                  <a:solidFill>
                    <a:srgbClr val="000000"/>
                  </a:solidFill>
                  <a:latin typeface="Gill Sans MT"/>
                </a:rPr>
                <a:t>computer games programmable toys </a:t>
              </a:r>
              <a:r>
                <a:rPr b="0" lang="en-NZ" sz="4400" spc="-1" strike="noStrike">
                  <a:solidFill>
                    <a:srgbClr val="000000"/>
                  </a:solidFill>
                  <a:latin typeface="Gill Sans MT"/>
                </a:rPr>
                <a:t>videoconferencing </a:t>
              </a:r>
              <a:r>
                <a:rPr b="0" lang="en-NZ" sz="1800" spc="-1" strike="noStrike">
                  <a:solidFill>
                    <a:srgbClr val="000000"/>
                  </a:solidFill>
                  <a:latin typeface="Gill Sans MT"/>
                </a:rPr>
                <a:t>data projectors </a:t>
              </a:r>
              <a:r>
                <a:rPr b="0" lang="en-NZ" sz="2400" spc="-1" strike="noStrike">
                  <a:solidFill>
                    <a:srgbClr val="000000"/>
                  </a:solidFill>
                  <a:latin typeface="Gill Sans MT"/>
                </a:rPr>
                <a:t>interactive whiteboards</a:t>
              </a:r>
              <a:r>
                <a:rPr b="0" lang="en-NZ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NZ" sz="3200" spc="-1" strike="noStrike">
                  <a:solidFill>
                    <a:srgbClr val="000000"/>
                  </a:solidFill>
                  <a:latin typeface="Gill Sans MT"/>
                </a:rPr>
                <a:t>pen drive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300" spc="-1" strike="noStrike">
                <a:solidFill>
                  <a:srgbClr val="572314"/>
                </a:solidFill>
                <a:latin typeface="Gill Sans MT"/>
              </a:rPr>
              <a:t>What ICT’s do you use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Gill Sans MT"/>
              </a:rPr>
              <a:t>Have a chat with your neighbour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Gill Sans MT"/>
              </a:rPr>
              <a:t>What do you use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Gill Sans MT"/>
              </a:rPr>
              <a:t>What are ICT tool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Gill Sans MT"/>
              </a:rPr>
              <a:t>How confident are you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Gill Sans MT"/>
              </a:rPr>
              <a:t>Does using ICT improve outcomes for student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300" spc="-1" strike="noStrike">
                <a:solidFill>
                  <a:srgbClr val="572314"/>
                </a:solidFill>
                <a:latin typeface="Gill Sans MT"/>
              </a:rPr>
              <a:t>E-learning and pedagogy -NZC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990720" y="1295280"/>
            <a:ext cx="79437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Information and communication technology (ICT) has a major impact on the world in which young people live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Similarly, e-learning </a:t>
            </a:r>
            <a:r>
              <a:rPr b="0" lang="en-NZ" sz="18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en-NZ" sz="2000" spc="-1" strike="noStrike">
                <a:solidFill>
                  <a:srgbClr val="922223"/>
                </a:solidFill>
                <a:latin typeface="Gill Sans MT"/>
              </a:rPr>
              <a:t>that is, learning supported by or facilitated by ICT</a:t>
            </a:r>
            <a:r>
              <a:rPr b="0" lang="en-NZ" sz="1800" spc="-1" strike="noStrike">
                <a:solidFill>
                  <a:srgbClr val="000000"/>
                </a:solidFill>
                <a:latin typeface="Gill Sans MT"/>
              </a:rPr>
              <a:t>) </a:t>
            </a: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has considerable potential to support the teaching approaches outlined in the section below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For instance, e-learning may: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assist the making of </a:t>
            </a:r>
            <a:r>
              <a:rPr b="0" i="1" lang="en-NZ" sz="2800" spc="-1" strike="noStrike">
                <a:solidFill>
                  <a:srgbClr val="000000"/>
                </a:solidFill>
                <a:latin typeface="Gill Sans MT"/>
              </a:rPr>
              <a:t>connections</a:t>
            </a: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 by enabling students to enter and explore new learning environments, overcoming barriers of distance and tim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facilitate </a:t>
            </a:r>
            <a:r>
              <a:rPr b="0" i="1" lang="en-NZ" sz="2800" spc="-1" strike="noStrike">
                <a:solidFill>
                  <a:srgbClr val="000000"/>
                </a:solidFill>
                <a:latin typeface="Gill Sans MT"/>
              </a:rPr>
              <a:t>shared learning</a:t>
            </a:r>
            <a:r>
              <a:rPr b="0" lang="en-NZ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by enabling students to join or create communities of learners that extend well beyond the classroom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assist in the creation of </a:t>
            </a:r>
            <a:r>
              <a:rPr b="0" i="1" lang="en-NZ" sz="2800" spc="-1" strike="noStrike">
                <a:solidFill>
                  <a:srgbClr val="000000"/>
                </a:solidFill>
                <a:latin typeface="Gill Sans MT"/>
              </a:rPr>
              <a:t>supportive learning environments</a:t>
            </a:r>
            <a:r>
              <a:rPr b="0" lang="en-NZ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by offering resources that take account of individual, cultural, or developmental difference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enhance </a:t>
            </a:r>
            <a:r>
              <a:rPr b="0" i="1" lang="en-NZ" sz="2800" spc="-1" strike="noStrike">
                <a:solidFill>
                  <a:srgbClr val="000000"/>
                </a:solidFill>
                <a:latin typeface="Gill Sans MT"/>
              </a:rPr>
              <a:t>opportunities to learn</a:t>
            </a:r>
            <a:r>
              <a:rPr b="0" lang="en-NZ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by offering students virtual experiences and tools that save them time, allowing them to take their learning further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Gill Sans MT"/>
              </a:rPr>
              <a:t>Schools should explore not only how ICT can supplement traditional ways of teaching but also how it can open up new and different ways of learning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2357280" y="6688080"/>
            <a:ext cx="54104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" spc="-1" strike="noStrike">
                <a:solidFill>
                  <a:srgbClr val="000000"/>
                </a:solidFill>
                <a:latin typeface="Arial"/>
              </a:rPr>
              <a:t>Ministry of Education (2007) </a:t>
            </a:r>
            <a:r>
              <a:rPr b="0" i="1" lang="en-NZ" sz="500" spc="-1" strike="noStrike">
                <a:solidFill>
                  <a:srgbClr val="000000"/>
                </a:solidFill>
                <a:latin typeface="Arial"/>
              </a:rPr>
              <a:t>The New Zealand Curriculum Years 1- 13 </a:t>
            </a:r>
            <a:r>
              <a:rPr b="0" lang="en-NZ" sz="500" spc="-1" strike="noStrike">
                <a:solidFill>
                  <a:srgbClr val="000000"/>
                </a:solidFill>
                <a:latin typeface="Arial"/>
              </a:rPr>
              <a:t>Effective pedagogy: Teacher actions promoting student learning (pg 36) Wellington, New Zealand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900" spc="-1" strike="noStrike">
                <a:solidFill>
                  <a:srgbClr val="572314"/>
                </a:solidFill>
                <a:latin typeface="Gill Sans MT"/>
              </a:rPr>
              <a:t>Where exactly does e-learning f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1" name="Content Placeholder 3" descr=""/>
          <p:cNvPicPr/>
          <p:nvPr/>
        </p:nvPicPr>
        <p:blipFill>
          <a:blip r:embed="rId1"/>
          <a:stretch/>
        </p:blipFill>
        <p:spPr>
          <a:xfrm>
            <a:off x="1139760" y="1163520"/>
            <a:ext cx="7650360" cy="5572080"/>
          </a:xfrm>
          <a:prstGeom prst="rect">
            <a:avLst/>
          </a:prstGeom>
          <a:ln w="0">
            <a:noFill/>
          </a:ln>
        </p:spPr>
      </p:pic>
      <p:grpSp>
        <p:nvGrpSpPr>
          <p:cNvPr id="342" name="Left-Right Arrow 5"/>
          <p:cNvGrpSpPr/>
          <p:nvPr/>
        </p:nvGrpSpPr>
        <p:grpSpPr>
          <a:xfrm>
            <a:off x="1676520" y="5888160"/>
            <a:ext cx="6662520" cy="774720"/>
            <a:chOff x="1676520" y="5888160"/>
            <a:chExt cx="6662520" cy="774720"/>
          </a:xfrm>
        </p:grpSpPr>
        <p:pic>
          <p:nvPicPr>
            <p:cNvPr id="343" name="Left-Right Arrow 5" descr=""/>
            <p:cNvPicPr/>
            <p:nvPr/>
          </p:nvPicPr>
          <p:blipFill>
            <a:blip r:embed="rId2"/>
            <a:stretch/>
          </p:blipFill>
          <p:spPr>
            <a:xfrm>
              <a:off x="1676520" y="5888160"/>
              <a:ext cx="66625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1906560" y="6097680"/>
              <a:ext cx="6203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Box 6"/>
          <p:cNvSpPr/>
          <p:nvPr/>
        </p:nvSpPr>
        <p:spPr>
          <a:xfrm>
            <a:off x="3657600" y="53341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Gill Sans MT"/>
              </a:rPr>
              <a:t>E- learning and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8"/>
          <p:cNvSpPr/>
          <p:nvPr/>
        </p:nvSpPr>
        <p:spPr>
          <a:xfrm>
            <a:off x="37339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Gill Sans MT"/>
              </a:rPr>
              <a:t>Key Compet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300" spc="-1" strike="noStrike">
                <a:solidFill>
                  <a:srgbClr val="572314"/>
                </a:solidFill>
                <a:latin typeface="Gill Sans MT"/>
              </a:rPr>
              <a:t>Blooms Digital Taxonom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47560" y="1294920"/>
            <a:ext cx="74991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Gill Sans MT"/>
              </a:rPr>
              <a:t>What does e-learning and ICT look like for students?  What could it look like..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9" name="Diagram 3" descr=""/>
          <p:cNvPicPr/>
          <p:nvPr/>
        </p:nvPicPr>
        <p:blipFill>
          <a:blip r:embed="rId1"/>
          <a:stretch/>
        </p:blipFill>
        <p:spPr>
          <a:xfrm>
            <a:off x="530280" y="2127240"/>
            <a:ext cx="5499000" cy="4370400"/>
          </a:xfrm>
          <a:prstGeom prst="rect">
            <a:avLst/>
          </a:prstGeom>
          <a:ln w="0">
            <a:noFill/>
          </a:ln>
        </p:spPr>
      </p:pic>
      <p:pic>
        <p:nvPicPr>
          <p:cNvPr id="350" name="Diagram 5" descr=""/>
          <p:cNvPicPr/>
          <p:nvPr/>
        </p:nvPicPr>
        <p:blipFill>
          <a:blip r:embed="rId2"/>
          <a:stretch/>
        </p:blipFill>
        <p:spPr>
          <a:xfrm>
            <a:off x="3425760" y="1974960"/>
            <a:ext cx="59562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900" spc="-1" strike="noStrike">
                <a:solidFill>
                  <a:srgbClr val="572314"/>
                </a:solidFill>
                <a:latin typeface="Gill Sans MT"/>
              </a:rPr>
              <a:t>Effective e-learning Practice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071720" y="1447920"/>
            <a:ext cx="79293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Gill Sans MT"/>
              </a:rPr>
              <a:t>A focus on purpose is important in all learning areas and in e-learning.</a:t>
            </a:r>
            <a:br>
              <a:rPr sz="1300"/>
            </a:br>
            <a:br>
              <a:rPr sz="1300"/>
            </a:br>
            <a:br>
              <a:rPr sz="1300"/>
            </a:b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Some things to think about</a:t>
            </a:r>
            <a:br>
              <a:rPr sz="1600"/>
            </a:b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Use activites with whole class or groups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Wiki can be used for home link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Whole class and a learning object on the data projector to work through together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Give students the mouse while working in a group - (consider wireless Bluetooth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Students demonstrating using a learning object or activity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2-3 students working together on activities at computer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Students showing each other or demonstrating their learning to other student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Do they lead to any hands on follow up activites?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Targeting Maori and Pacifika or other learing needs - eg extensio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Don't be restricted by level eg a upper primary learning object could be used with Juniors with support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Don't be restricted by learning area eg an english learning object might have maths content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Gill Sans MT"/>
              </a:rPr>
              <a:t>out of class work (eek homework!) on a wiki for student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23:12:42Z</dcterms:created>
  <dc:creator>roban31p</dc:creator>
  <dc:description/>
  <dc:language>en-US</dc:language>
  <cp:lastModifiedBy>roban31p</cp:lastModifiedBy>
  <dcterms:modified xsi:type="dcterms:W3CDTF">2009-07-30T01:54:31Z</dcterms:modified>
  <cp:revision>5</cp:revision>
  <dc:subject/>
  <dc:title>E-learning and Literacy</dc:title>
</cp:coreProperties>
</file>